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A7E-B8FC-4813-B274-494C8F28E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995-3934-4D45-8852-42A528BF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E71-004E-418F-B8BF-7C6946F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A22-6566-4491-B20B-0720A98F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CE9-C208-4DCD-89B4-2C9DB164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C24-0352-4BEB-8705-E86144AF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AC-DD65-4643-8CC6-A19DDD0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560-967D-46E2-969D-524692F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316-1BDD-4E46-92FC-D7B68E6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600-1888-4677-8149-0BBB90C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9D6-F9F9-4E94-9914-C0113F56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5BA-8C02-41E9-A285-ADC8054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C36-F595-4F73-B627-B16CFEF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23E6-322F-4E83-B32B-435E0FD8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5-05-26T14:37:30Z</dcterms:modified>
  <cp:revision>47</cp:revision>
  <dc:subject/>
  <dc:title>Evidence for Evolution</dc:title>
</cp:coreProperties>
</file>